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3.png" ContentType="image/png"/>
  <Override PartName="/ppt/media/image13.jpeg" ContentType="image/jpeg"/>
  <Override PartName="/ppt/media/image44.png" ContentType="image/png"/>
  <Override PartName="/ppt/media/image35.png" ContentType="image/png"/>
  <Override PartName="/ppt/media/image5.png" ContentType="image/png"/>
  <Override PartName="/ppt/media/image10.jpeg" ContentType="image/jpeg"/>
  <Override PartName="/ppt/media/image30.png" ContentType="image/png"/>
  <Override PartName="/ppt/media/image28.png" ContentType="image/png"/>
  <Override PartName="/ppt/media/image34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9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37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2791-143A-4E47-B878-ECDEEB58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AB86-E55E-47DE-B5F7-666AE3DD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CF07-CDD9-48B0-B30B-BE0209366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0A17-82E7-444E-81CA-378059960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9280-9691-4AF5-8D9C-A8BA534D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6DCF-228C-4480-B488-CAF54780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2AC9-6580-4533-AFDD-DC863C51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B8BB-369B-46F1-AA7E-A95E5FA17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DDE0-F0CA-41FC-B7F0-5BD2FBF54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2E75-46BD-47EF-948E-B2F58F41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407F-E42C-4282-B54A-82F6426E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D042-9A7D-4A3F-956A-3A03336A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B721-A2C3-46E5-B47F-3E4D8AAA2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674720" y="2881440"/>
            <a:ext cx="843912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eoScrip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682360" y="3914640"/>
            <a:ext cx="6637320" cy="16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patial Capabilities for Scripting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Justin Deolivera and Jared Ericks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GeoScript Modul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600360" y="1523520"/>
            <a:ext cx="309744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jec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eatu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nder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8960" y="282600"/>
            <a:ext cx="82850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828800" y="1843200"/>
            <a:ext cx="3433680" cy="349236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25840" y="2036520"/>
            <a:ext cx="47242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venient constructo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KT/WK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S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M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lot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ansform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8960" y="282600"/>
            <a:ext cx="82850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787400" y="1579680"/>
            <a:ext cx="8247240" cy="432900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73080" y="1727280"/>
            <a:ext cx="8101080" cy="34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from geoscript import ge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geom.Point(30, 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POINT(30 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geom.LineString((30,10), (10,20), (20,40), (40,40), (30,10))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 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LINESTRING (30 10, 10 20, 20 40, 40 40, 30 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geom.Polygon([(35,10), (10,20), (15,40), (45,45), (35,10)], [(20,30), (35,35), (30,20), (20,30)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POLYGON ((35 10, 10 20, ... 30 20, 20 30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geom.MultiLineString([(10,10), (20,20), (10,40)],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[(40,40), (30,30), (40,20), (30,10)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MULTILINESTRING ((10 10, 20 20, ... 40 20, 30 10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23080" y="1073160"/>
            <a:ext cx="21114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structo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8960" y="282600"/>
            <a:ext cx="82850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787400" y="1579680"/>
            <a:ext cx="8269560" cy="439560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38160" y="1670040"/>
            <a:ext cx="8255160" cy="36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from geoscript import ge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point = geom.Point(30, 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geom.writeGML(poi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lt;gml:Point xmlns:gml="http://www.opengis.net/gml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lt;gml:coor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lt;gml:X&gt;30.0&lt;/gml:X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lt;gml:Y&gt;10.0&lt;/gml: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lt;/gml:coor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lt;/gml:Poin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geom.readJSON('{"type":"Point","coordinates":[30,10]}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POINT(30 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geom.writeWKB(poi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array('b', [0, 0, 0, 0, 1, 64, 62, ... 64, 36, 0, 0, 0, 0, 0, 0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723080" y="1073160"/>
            <a:ext cx="21114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8960" y="282600"/>
            <a:ext cx="82850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787400" y="1571760"/>
            <a:ext cx="8237520" cy="206820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36720" y="1666800"/>
            <a:ext cx="810252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from geoscript.render import p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from geoscript import ge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poly = geom.Polygon([(35,10), (10,20), (15,40), (45,45), (35,10)], [(20,30), (35,35), (30,20), (20,30)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plot(po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23080" y="1073160"/>
            <a:ext cx="21114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lot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861160" y="3351240"/>
            <a:ext cx="3941640" cy="3941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838840" y="3355920"/>
            <a:ext cx="3952800" cy="3960720"/>
          </a:xfrm>
          <a:prstGeom prst="rect">
            <a:avLst/>
          </a:prstGeom>
          <a:noFill/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58960" y="282600"/>
            <a:ext cx="82850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Geometr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87400" y="1573200"/>
            <a:ext cx="8237520" cy="277668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36720" y="1662120"/>
            <a:ext cx="7948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from geoscript.geom import Point, trans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from geoscript.render import dr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c = geom.Point(0, 0).buffer(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d = transform(c, dx=5)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#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draw([c,d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e,f = transform(c, shx=0.5), transform(c, shx=-0.5) # sh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g = transform(c, sx=0.7)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# sc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draw([e,f,g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23080" y="1073160"/>
            <a:ext cx="21114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ransform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981080" y="4368960"/>
            <a:ext cx="3786480" cy="32256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977080" y="4361040"/>
            <a:ext cx="3786120" cy="32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8960" y="282600"/>
            <a:ext cx="82850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rojec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825560" y="1836720"/>
            <a:ext cx="3430800" cy="34876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25840" y="2036520"/>
            <a:ext cx="47242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se/encode WK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ull GeoTools EPSG databa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-projec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58960" y="282600"/>
            <a:ext cx="82850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rojec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787400" y="1579680"/>
            <a:ext cx="8178840" cy="455112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36720" y="1666800"/>
            <a:ext cx="810252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from geoscript.proj import Proj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Projection('EPSG:4326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GEOGCS["WGS 84",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ATUM["World Geodetic System 1984",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SPHEROID["WGS 84", 6378137.0, 298.257223563, AUTHORITY["EPSG","7030"]],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AUTHORITY["EPSG","6326"]],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PRIMEM["Greenwich", 0.0, AUTHORITY["EPSG","8901"]],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UNIT["degree", 0.017453292519943295],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AXIS["Geodetic longitude", EAST],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AXIS["Geodetic latitude", NORTH],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AUTHORITY["EPSG","4326"]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p = Projection('GEOGCS[..."Degree",0.017453292519943295]]')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p.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'EPSG:4326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723080" y="1073160"/>
            <a:ext cx="21114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nstructo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58960" y="282600"/>
            <a:ext cx="82850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rojec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787400" y="1576440"/>
            <a:ext cx="8269560" cy="341784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836720" y="1666800"/>
            <a:ext cx="8102520" cy="30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from geoscript import geom, re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from geoscript.proj import Proj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p = Projection('epsg:4326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p.transform((-111, 45.7), 'epsg:26912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(500000.0, 5060716.313515949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g = geom.Point(0, 0).buffer(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g = reduce(lambda x,y:x.union(y),[geom.transform(g,dx=x,dy=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  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for x,y in [(3,0),(0,3),(-3,0),(0,-3)]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render.draw(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render.draw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(p.transform(g, 'epsg:26912')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render.draw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(p.transform(g, 'epsg:3005')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723080" y="1073160"/>
            <a:ext cx="21114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projec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987640" y="5254560"/>
            <a:ext cx="1906560" cy="1906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072040" y="5254560"/>
            <a:ext cx="1906560" cy="1906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156440" y="5232240"/>
            <a:ext cx="1906560" cy="1905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438360" y="7264440"/>
            <a:ext cx="9208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GS 8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506920" y="7264440"/>
            <a:ext cx="9208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729560" y="7251840"/>
            <a:ext cx="9208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8960" y="282600"/>
            <a:ext cx="82850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ata Acces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835280" y="1846440"/>
            <a:ext cx="3435120" cy="34938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25840" y="2036520"/>
            <a:ext cx="47242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ad and Write Lay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Query Layers using CQ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/O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JS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M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41400" y="271080"/>
            <a:ext cx="812808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cripting Platform for JVM Languag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336760" y="4064040"/>
            <a:ext cx="3521160" cy="1334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705720" y="5791320"/>
            <a:ext cx="2862000" cy="1411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6908760" y="3556080"/>
            <a:ext cx="2328840" cy="19638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2235240" y="6197760"/>
            <a:ext cx="710712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189160" y="1747800"/>
            <a:ext cx="7713720" cy="15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milar API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spect languages differenc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ython GeoScript should be Pythonic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 easy things easy, Make hard things possib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8960" y="282600"/>
            <a:ext cx="82850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ata Acces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787400" y="1582560"/>
            <a:ext cx="8271000" cy="445320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36720" y="1674720"/>
            <a:ext cx="8197920" cy="41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from geoscript.workspace import PostG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from geoscript import ge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pg = PostGIS('spearfish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pg.layers(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['archsites', 'bugsites', 'railroads', 'restricted', 'roads', 'streams'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l = pg['bugsites'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l.sch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bugsites [cat: long, str1: str, the_geom: Point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l = Layer('foo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l.add([geom.Point(0,0)])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l = pg.add(l)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l = pg.create('bar', [('geom',geom.Point),('name',str)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23080" y="1073160"/>
            <a:ext cx="21114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orkspac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58960" y="282600"/>
            <a:ext cx="82850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ata Acces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787400" y="1584360"/>
            <a:ext cx="8269560" cy="493092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36720" y="1674720"/>
            <a:ext cx="8197920" cy="48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from geoscript.layer import Shap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shp = Shapefile('states.shp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shp.count(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4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shp.count('CARPOOL/PERSONS &gt; 0.06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2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shp.bounds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(-124.731422, 24.955967, -66.969849, 49.371735, EPSG:432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shp.bounds("STATE_NAME = 'Colorado'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(-109.055199, 36.988972, -102.036758, 41.00341, EPSG:432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for f in shp.features(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 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print '%s has %f people' % (f['STATE_NAME'],f['PERSONS'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for f in shp.features('CARPOOL/PERSONS &gt; 0.06'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...   print '%s likes to carpool' % f['STATE_NAME'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723080" y="1073160"/>
            <a:ext cx="21114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y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58960" y="282600"/>
            <a:ext cx="82850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ata Acces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787400" y="1584360"/>
            <a:ext cx="8224920" cy="507528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38160" y="1674720"/>
            <a:ext cx="834408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from geoscript.feature import Schema, 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from geoscript.geom import 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schema = Schema('shapes', [('geom',Polygon), ('name',str)])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square = Feature([LineString((0,0),(1,1)).bounds().toPolygon(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     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'square'], 0, schem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 square.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 square['name'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'square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 square.ge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POLYGON ((0 0, 0 1, 1 1, 1 0, 0 0)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square.geom = LineString((0,0),(2,1)).bounds().toPolygon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square['name'] = 'rectangle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circle = Feature({'geom':Point(0,0).buffer(1),'name':'circle'}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23080" y="1073160"/>
            <a:ext cx="21114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58960" y="282600"/>
            <a:ext cx="82850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ata Acces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787400" y="1585800"/>
            <a:ext cx="8332920" cy="546264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36720" y="1674720"/>
            <a:ext cx="819792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from geoscript.feature import 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from geoscript.geom import Polyg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triangle = Feature({'geom':Polygon([(0,0),(1,1),(2,0),(0,0)])}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writeGML(triang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'courier new'"/>
              </a:rPr>
              <a:t>&lt;gsf:feature fid="fid--272f9bd3_1322c34ca2d_-8000" xmlns:gml="http://www.opengis.net/gml" xmlns:gsf="http://geoscript.org/feature"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'courier new'"/>
              </a:rPr>
              <a:t> </a:t>
            </a:r>
            <a:r>
              <a:rPr b="0" lang="en-US" sz="1300" spc="-1" strike="noStrike">
                <a:solidFill>
                  <a:srgbClr val="000000"/>
                </a:solidFill>
                <a:latin typeface="'courier new'"/>
              </a:rPr>
              <a:t>&lt;gsf:geom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1300" spc="-1" strike="noStrike">
                <a:solidFill>
                  <a:srgbClr val="000000"/>
                </a:solidFill>
                <a:latin typeface="'courier new'"/>
              </a:rPr>
              <a:t>&lt;gml:Polygon&gt;...&lt;/gml:Polygon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'courier new'"/>
              </a:rPr>
              <a:t> </a:t>
            </a:r>
            <a:r>
              <a:rPr b="0" lang="en-US" sz="1300" spc="-1" strike="noStrike">
                <a:solidFill>
                  <a:srgbClr val="000000"/>
                </a:solidFill>
                <a:latin typeface="'courier new'"/>
              </a:rPr>
              <a:t>&lt;/gsf:geom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'courier new'"/>
              </a:rPr>
              <a:t>&lt;/gsf:featur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writeGML(triangle, version=3.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 writeJSON(triang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'courier new'"/>
              </a:rPr>
              <a:t>{"type":"Feature","geometry":{"type":"Polygon","coordinates":[[[0.0,0.0],[1,1],[2,0.0],[0.0,0.0]]]},"properties":{},"id":"fid--272f9bd3_1322c34ca2d_-8000"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&gt;&gt;&gt; f = readJSON('{"type":"Feature", "geometry":{"type":"Point", "coordinates":[1.0, 2.0]}}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'courier new'"/>
              </a:rPr>
              <a:t>feature.fid--709b2d80_1322c512876_-8000 {geometry: POINT (1 2)}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3080" y="1073160"/>
            <a:ext cx="21114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808280" y="1789200"/>
            <a:ext cx="3481200" cy="354168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8960" y="282600"/>
            <a:ext cx="82850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tyling and Render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25840" y="2036520"/>
            <a:ext cx="4724280" cy="302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aming SL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ymboliz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cale depende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mat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758960" y="282600"/>
            <a:ext cx="82850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tyl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787400" y="1574640"/>
            <a:ext cx="8301240" cy="254952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6720" y="1666800"/>
            <a:ext cx="8143920" cy="25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from geoscript.style import Stro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from geoscript.render import dr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from geoscript.geom import 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line = LineString((0,0), (1,1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draw(line,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Stroke('#000000', width=2)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# 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draw(line,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 Stroke('black', width=2, dash=[5,5])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# da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draw(line,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 Stroke((0,0,0), width=2).hatch('vertline')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)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# h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23080" y="1073160"/>
            <a:ext cx="21114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rok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336760" y="477504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4775040" y="477504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7442280" y="4775040"/>
            <a:ext cx="19065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58960" y="282600"/>
            <a:ext cx="82850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tyl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787400" y="1577880"/>
            <a:ext cx="8310600" cy="293544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1666800"/>
            <a:ext cx="8248680" cy="27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from geoscript.style import Fill, Stro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from geoscript.render import dr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from geoscript.geom import 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poly = Point(0,0).buffer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draw(poly,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Fill('gray')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) # norm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draw(poly,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 Fill('gray', opacity=0.5)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) # trans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draw(poly,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 Fill('gray').hatch('backslash')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) # hatch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draw(poly,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 Stroke('red',2) + Fill().hatch('times')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723080" y="1073160"/>
            <a:ext cx="21114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943440" y="5018040"/>
            <a:ext cx="1906560" cy="19065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2013120" y="5018040"/>
            <a:ext cx="1906560" cy="19065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5884920" y="4987800"/>
            <a:ext cx="1906560" cy="19065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7864560" y="4992840"/>
            <a:ext cx="190656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8960" y="282600"/>
            <a:ext cx="82850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tyl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787400" y="1574640"/>
            <a:ext cx="8312400" cy="240192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36720" y="1666800"/>
            <a:ext cx="8143920" cy="20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from geoscript.style import Sh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from geoscript.render import dr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from geoscript.geom import 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mpoint = MultiPoint((0,0), (0,1), (1,1), (1,0), (0.5,0.5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draw(mpoint,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Shape('black', 10)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draw(mpoint,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Shape('yellow', 20, 'star')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draw(mpoint,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Shape('red', 20, 'x')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723080" y="1073160"/>
            <a:ext cx="21114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133720" y="477504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4876920" y="477504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7547040" y="4775040"/>
            <a:ext cx="19065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8960" y="282600"/>
            <a:ext cx="82850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tyl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787400" y="1574640"/>
            <a:ext cx="8312400" cy="240192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36720" y="1666800"/>
            <a:ext cx="8143920" cy="20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from geoscript.style import 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from geoscript.render import dr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from geoscript.geom import 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mpoint = MultiPoint((0,0), (0,1), (1,1), (1,0), (0.5,0.5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draw(mpoint,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Icon('hospital.png')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draw(mpoint,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Icon('rainy.svg')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723080" y="1073160"/>
            <a:ext cx="21114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c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251160" y="467352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6095880" y="467352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58960" y="282600"/>
            <a:ext cx="82850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tyl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787400" y="1592280"/>
            <a:ext cx="8236080" cy="361476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36720" y="1673280"/>
            <a:ext cx="8185320" cy="34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from geoscript.style import Label, Stroke, Fill, Sha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from geoscript.feature import 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from geoscript.render import dr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from geoscript.geom import 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font = 'bold 16px Arial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f = Feature({'geom': Point(0,0), 'name': 'foo'}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raw(f,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Shape() +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 Label('name', font).point(displace=(20,0))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f = Feature({'geom': LineString((0,0), (1,1)), 'name': 'bar'}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raw(f, Stroke() +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Label('name', font).linear(offset=10)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f = Feature({'geom': Point(0,0).buffer(1), 'name': 'baz'}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raw(f, Fill() +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Label('name', font).halo('white', 2)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723080" y="1073160"/>
            <a:ext cx="21114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abel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2097000" y="5486400"/>
            <a:ext cx="1906560" cy="19051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4637160" y="5384880"/>
            <a:ext cx="1906560" cy="19047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7470720" y="5384880"/>
            <a:ext cx="190656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8600" y="271080"/>
            <a:ext cx="812628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Groov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836360" y="1977840"/>
            <a:ext cx="8126280" cy="52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roovy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ynamic langu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asy for Java programmers to learn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osures, DSL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PL, GUI Conso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piles to Java Byte Cod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ull access to Java librar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ttp://geoscript.org/groov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ttps://github.com/jericks/geoscript-groov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416720" y="6197760"/>
            <a:ext cx="2578320" cy="126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930320" y="5079960"/>
            <a:ext cx="2540160" cy="25401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4470480" y="5079960"/>
            <a:ext cx="2539800" cy="254016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58960" y="282600"/>
            <a:ext cx="82850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tyl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997680" y="5079960"/>
            <a:ext cx="2541600" cy="25401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787400" y="1593720"/>
            <a:ext cx="8210520" cy="387828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836720" y="1673280"/>
            <a:ext cx="8185320" cy="39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from geoscript.style Shape, Icon, La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from geoscript.render import dr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from geoscript.feature import 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from geoscript.geom import 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school = Feature({'loc': Point(0,0), 'name': 'J.L. Crowe'}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style = Shape('#004d96', 5)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.range(min=3000)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style += Icon('school20.png')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.range(max=3000, min=15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style += Icon('school40.png').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range(max=15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bounds = Bounds(-100, -100, 100, 100, 'epsg:404000')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draw(school, style,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bounds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draw(school, style,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bounds.scale(0.5)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draw(school, style, </a:t>
            </a: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bounds.scale(0.1)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723080" y="1073160"/>
            <a:ext cx="21114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ca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758960" y="282600"/>
            <a:ext cx="82850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tyl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787400" y="1590840"/>
            <a:ext cx="8185320" cy="333216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836720" y="1671480"/>
            <a:ext cx="8231040" cy="30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from geoscript.style Stroke, Fill, La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 from geoscript.render import dra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from geoscript.layer import Shap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states = Shapefile('states.shp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&gt;&gt; styl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troke() + Label('STATE_ABBR', '14 "Times New Roman"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&gt;&gt; styl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ill('#4DFF4D', 0.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where('PERSONS &lt; 2000000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&gt;&gt; styl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ill('#FF4D4D', 0.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where('PERSONS BETWEEN 2000000 AND 4000000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gt;&gt;&gt; styl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+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ill('#4D4DFF', 0.7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where('PERSONS &gt; 4000000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&gt;&gt;&gt; draw(states, sty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723080" y="1073160"/>
            <a:ext cx="211140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m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3722760" y="4869000"/>
            <a:ext cx="6351480" cy="26812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727440" y="4865760"/>
            <a:ext cx="6321600" cy="2670120"/>
          </a:xfrm>
          <a:prstGeom prst="rect">
            <a:avLst/>
          </a:prstGeom>
          <a:noFill/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841400" y="806400"/>
            <a:ext cx="8170920" cy="596268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57160" y="96840"/>
            <a:ext cx="825804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entroid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771200" y="711000"/>
            <a:ext cx="8310600" cy="58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import geoscript.layer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import geoscript.feature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import geoscript.geom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Shapefile shp = new Shapefile('states.shp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Schema schema = shp.schema.changeGeometryType('Point'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'states_centroids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Layer centroidLayer = shp.workspace.create(schem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Cursor cursor = shp.cur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while(cursor.hasNext()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   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Feature f = cursor.next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   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Map attributes = [: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   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f.attributes.each{k,v 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      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if (v instanceof Geometry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          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attributes[k] = v.centr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      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      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         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attributes[k] =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      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   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   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Feature feature = schema.feature(attributes, f.i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   </a:t>
            </a: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centroidLayer.add(featur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nsolas"/>
              </a:rPr>
              <a:t>cursor.close()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789520" y="5702400"/>
            <a:ext cx="4283280" cy="180180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5878440" y="5791320"/>
            <a:ext cx="402768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841400" y="922320"/>
            <a:ext cx="8291520" cy="441792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758600" y="96840"/>
            <a:ext cx="8358120" cy="9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Voronoi Diagra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871640" y="1008000"/>
            <a:ext cx="8067600" cy="454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import geoscript.layer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import geoscript.feature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import geoscript.geom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Shapefile shp = new Shapefile('states.shp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Schema schema = new Schema('states_voronoi',           [['the_geom','MultiPolygon','EPSG:4326']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Layer diagramLayer = shp.workspace.create(schem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List geoms = shp.features.collect{f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   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f.geom.centr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GeometryCollection geomCol = new GeometryCollection(geo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Geometry voronoiGeom = geomCol.voronoiDia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iagramLayer.add(schema.feature([voronoiGeom]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73600" y="4889520"/>
            <a:ext cx="3289320" cy="262584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3913200" y="4924440"/>
            <a:ext cx="3225960" cy="25858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839960" y="1028880"/>
            <a:ext cx="8126280" cy="466848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58600" y="100080"/>
            <a:ext cx="835812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apefiles to PostGI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872720" y="1219320"/>
            <a:ext cx="7797960" cy="500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import geoscript.workspace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import geoscript.layer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ef dir = new Directory("/Users/jericks/Downloads/wash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println("Shapefiles: ${dir.layers}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ef postgis = new PostGIS('postgres','localhost','5432','public','postgres', 'postgres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println("PostGIS Layers: ${postgis.layers}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ir.layers.each{name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ef layer = dir.get(na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println("Adding ${layer.name}...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postgis.add(lay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5994360"/>
            <a:ext cx="947880" cy="14032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3454560" y="5892840"/>
            <a:ext cx="1484280" cy="148428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4"/>
          <a:stretch/>
        </p:blipFill>
        <p:spPr>
          <a:xfrm>
            <a:off x="5181480" y="5892840"/>
            <a:ext cx="1482840" cy="14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670040" y="101520"/>
            <a:ext cx="8439120" cy="121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SGS Earth Quak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930320" y="914400"/>
            <a:ext cx="7917120" cy="407052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974960" y="5181480"/>
            <a:ext cx="78199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ad RSS Feed to a Shape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739880" y="20520"/>
            <a:ext cx="8352000" cy="751536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1752480" y="95400"/>
            <a:ext cx="8180640" cy="77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import geoscript.geom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import geoscript.feature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import geoscript.layer.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import geoscript.workspace.Direct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Schema s = new Schema('earthquakes'[['the_geom', 'Point', 'EPSG:4326'], ['title','String'], ['date', 'java.util.Date'], ['elevation', 'Double']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irectory dir = new Directory('.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Layer layer = dir.create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ef url = "http://earthquake.usgs.gov/earthquakes/catalogs/1day-M2.5.xml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ef rss = new XmlParser().parse(ur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int c =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String dateFormat = "yyyy-MM-dd'T'HH:mm:ss'Z'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rss.entry.each{e -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ef title = e.title.text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ef date = Date.parse(dateFormat, e.updated.text(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ef coordinate = e."georss:point".text().split(" 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ouble x = coordinate[1] as Dou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ouble y = coordinate[0] as Dou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ef point = new Point(x,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ef elev = e."georss:elev".text() as Dou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Feature f = s.feature(['title':title,'date':dat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'elevation': elev, 'the_geom': point],"earthquake_${c}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layer.add(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c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1822320" y="1434960"/>
            <a:ext cx="8256600" cy="606600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757160" y="93240"/>
            <a:ext cx="8289720" cy="7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eb Application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923840" y="1523520"/>
            <a:ext cx="8056440" cy="58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@GrabResolver(name="graffiti", root="http://simple-dm.googlecode.com/svn/repository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@Grab("com.goodercode:graffiti:1.0-SNAPSHOT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import graffiti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import geoscript.geom.Geome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@Get("/buffer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ef buffe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Geometry.fromWKT(params.geom).buffer(params.distance as double).w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@Get("/centroid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ef centroid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Geometry.fromWKT(params.geom).centroid.w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@Get("/convexHull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ef convexHull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Geometry.fromWKT(params.geom).convexHull.w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Graffiti.root 'graffiti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Graffiti.serve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Graffiti.start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  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774800" y="812880"/>
            <a:ext cx="82360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raffiti Micro Web Framew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70040" y="142920"/>
            <a:ext cx="8437680" cy="120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eometry Web Services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3352680" y="1219320"/>
            <a:ext cx="544536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841400" y="1536840"/>
            <a:ext cx="8178840" cy="548136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70040" y="-360"/>
            <a:ext cx="843264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Geometry Web Services</a:t>
            </a:r>
            <a:br>
              <a:rPr sz="48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Layer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1974960" y="1625760"/>
            <a:ext cx="7680240" cy="48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function centroid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var features = vectorLayer.featur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if (features.length == 0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alert("Please add some features!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} else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OpenLayers.loadURL('centroid',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    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geom: wktFormat.write(featu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     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},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     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this,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     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function(request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    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var wkt = request.responseTex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    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var features = wktFormat.read(wk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    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if (features) vectorLayer.addFeatures(feature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     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},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     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functio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    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alert("Error calculating centroids!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     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8600" y="271080"/>
            <a:ext cx="812628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JavaScrip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36360" y="1977840"/>
            <a:ext cx="8126280" cy="52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620120" y="5384880"/>
            <a:ext cx="232884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778040" y="923760"/>
            <a:ext cx="8313840" cy="400860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757520" y="101520"/>
            <a:ext cx="812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MS Server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722240" y="1006200"/>
            <a:ext cx="8413560" cy="361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import com.sun.grizzly.http.embed.GrizzlyWeb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import com.sun.grizzly.http.servlet.ServletAdap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import groovy.servlet.GroovySerlv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@Grab(group='com.sun.grizzly',module='grizzly-servlet-webserver',  version='1.9.10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ef start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ef server = new GrizzlyWebServer(8080, "web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ef servlet = new ServletAdapter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servlet.contextPath = "/geoscript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servlet.servletInstance = new GroovyServlet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server.addGrizzlyAdapter(servlet, ["/geoscript"] as String[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server.start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start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673520" y="4267080"/>
            <a:ext cx="5186520" cy="32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841400" y="828720"/>
            <a:ext cx="8201160" cy="641808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57520" y="101520"/>
            <a:ext cx="812952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MS Server..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62280" y="874800"/>
            <a:ext cx="8145360" cy="57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import geoscript.map.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import geoscript.style.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import geoscript.layer.Shap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import geoscript.geom.Bou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ef file = new File("states.shp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ef shp = new Shapefile(fi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shp.style = new Fill("steelblue") + new Stroke("wheat", 0.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ef map = new Map(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width: 256,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height: 256,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layers: [shp]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proj: shp.proj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fixAspectRatio: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ef bbox = request.getParameter("BBOX").split(","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ef bounds = new Bounds(bbox[0] as double, bbox[1] as double, bbox[2] as double, bbox[3] as doub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map.bounds = bou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response.contentType = "image/png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map.render(response.outputStrea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map.clos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841400" y="5092560"/>
            <a:ext cx="8182080" cy="221940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41400" y="2044800"/>
            <a:ext cx="8218440" cy="272232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841400" y="809640"/>
            <a:ext cx="8201160" cy="825480"/>
          </a:xfrm>
          <a:prstGeom prst="rect">
            <a:avLst/>
          </a:prstGeom>
          <a:solidFill>
            <a:srgbClr val="eeeeee"/>
          </a:solidFill>
          <a:ln w="190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59040" y="100080"/>
            <a:ext cx="8254800" cy="101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Geometry Command line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873080" y="906120"/>
            <a:ext cx="8180640" cy="65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'courier new'"/>
              </a:rPr>
              <a:t>echo "POINT (1 1)" | geoscript-groovy geom_buffer.groovy -d 10 | geoscript-groovy geom_envelope.groov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1873080" y="2031840"/>
            <a:ext cx="8021880" cy="25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ef cli = new CliBuilder(usage: 'geoscript-groovy geom_buffer.groovy -d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cli.d(longOpt: 'distance', 'buffer distance', args: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cli.h(longOpt: 'help', 'Show usage information and quit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ef opt = cli.parse(arg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if(!opt) 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if (opt.h || !opt.d) cli.usag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else println geoscript.geom.Geometry.fromWKT(System.in.text).buffer(opt.d as double).w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873080" y="5181480"/>
            <a:ext cx="81345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ef cli = new CliBuilder(usage: 'geoscript-groovy geom_envelope.groovy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cli.h(longOpt: 'help', 'Show usage information and quit'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def opt = cli.parse(arg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if(!opt) 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if (opt.h) cli.usag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'courier new'"/>
              </a:rPr>
              <a:t>else println geoscript.geom.Geometry.fromWKT(System.in.text).bounds.geometry.w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74800" y="1722600"/>
            <a:ext cx="23274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om_buffer.groov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771560" y="4775040"/>
            <a:ext cx="23256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om_envelope.groov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758600" y="101520"/>
            <a:ext cx="826452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Road Map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873080" y="914400"/>
            <a:ext cx="8128080" cy="636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ndering 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aster 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PS/GeoServer plugin(s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p Prin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771200" y="114480"/>
            <a:ext cx="8116920" cy="10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872720" y="1216080"/>
            <a:ext cx="7999560" cy="615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ttp://geoscript.or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oogle Grou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ttp://groups.google.com/group/geoscrip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Blo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ttp://geoscriptblog.blogspot.co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GitHu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ttps://github.com/jdeolive/geoscript-p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ttps://github.com/tschaub/geoscript-j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ttps://github.com/dwins/geoscript.scal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 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ttps://github.com/jericks/geoscript-groov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 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734840" y="3047760"/>
            <a:ext cx="8155080" cy="115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8600" y="271080"/>
            <a:ext cx="812628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yth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36360" y="1977840"/>
            <a:ext cx="8126280" cy="52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ython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ava implementation of Python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ython 2.5 = CPython 2.5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ull access to Java librar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ttp://geoscript.org/p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ttps://github.com/jdeolive/geoscript-p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502320" y="6197760"/>
            <a:ext cx="3521160" cy="13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872720" y="1828440"/>
            <a:ext cx="802332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cala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bine functional and object-oriented programm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tically typed??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P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mpiles to Java bytecod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ull access to Java librar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ttp://geoscript.org/scala/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ttps://github.com/dwins/geoscript.scala/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1758600" y="271080"/>
            <a:ext cx="812628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cala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502320" y="6400800"/>
            <a:ext cx="710748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41400" y="271080"/>
            <a:ext cx="812808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On the shoulders of giants..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922400" y="1492200"/>
            <a:ext cx="810900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8960" y="97920"/>
            <a:ext cx="8261280" cy="10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On the shoulders of giants..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73080" y="1218960"/>
            <a:ext cx="8042400" cy="62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ava Topology Suite (JTS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metry API and Algorithm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Tool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ataStor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eatures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verages/Rasters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nderer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ava Tribe Base librar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Serv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uDi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maj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8960" y="282600"/>
            <a:ext cx="82850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GeoScript Modul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9640" cy="76248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657600" y="1625760"/>
            <a:ext cx="4432320" cy="45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