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5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80C-57F4-4CBA-9658-04C8747B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F5B-3463-4F29-B1AE-BD90888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0E4-B2C8-4734-AF57-3D90EE28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573-BA88-4E39-A63D-BE9A5207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DDD-4E07-4884-B51D-8AEB408A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783-A17B-4502-8EA0-C131FDF9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177-C0C5-4B47-97E1-AAB4DB3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A9D-786A-413F-BD63-BB4C11DF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31D-E5CE-4880-817E-7E4D7B5D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BE8-DDE3-4B25-B38C-C58D38A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5F5-01B7-4402-953B-8C75CD0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1B1-2839-4C8E-AE8D-D2656AA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9F67-B535-4478-82AB-D118FADFF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4720" y="2881440"/>
            <a:ext cx="84391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Scrip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82360" y="3914640"/>
            <a:ext cx="663732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tial Capabilities for Scripting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stin Deolivera and Jared Erick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Script Modu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360" y="1523520"/>
            <a:ext cx="309744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der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828800" y="1843200"/>
            <a:ext cx="3433680" cy="3492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25840" y="2036520"/>
            <a:ext cx="47242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venient construc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KT/WK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o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or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87400" y="1579680"/>
            <a:ext cx="8247240" cy="43290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73080" y="1727280"/>
            <a:ext cx="810108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 import 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Point(30,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INT(30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LineString((30,10), (10,20), (20,40), (40,40), (30,10)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INESTRING (30 10, 10 20, 20 40, 40 40, 30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Polygon([(35,10), (10,20), (15,40), (45,45), (35,10)], [(20,30), (35,35), (30,20), (20,30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LYGON ((35 10, 10 20, ... 30 20, 20 30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MultiLineString([(10,10), (20,20), (10,40)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[(40,40), (30,30), (40,20), (30,10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MULTILINESTRING ((10 10, 20 20, ... 40 20, 30 10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87400" y="1579680"/>
            <a:ext cx="8269560" cy="43956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160" y="1670040"/>
            <a:ext cx="825516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 import 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point = geom.Point(30,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writeGML(po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gml:Point xmlns:gml="http://www.opengis.net/gml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gml:coor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gml:X&gt;30.0&lt;/gml: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gml:Y&gt;10.0&lt;/gml: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/gml:coor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/gml:Poi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readJSON('{"type":"Point","coordinates":[30,10]}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INT(30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writeWKB(po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rray('b', [0, 0, 0, 0, 1, 64, 62, ... 64, 36, 0, 0, 0, 0, 0, 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87400" y="1571760"/>
            <a:ext cx="8237520" cy="20682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6720" y="1666800"/>
            <a:ext cx="81025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render import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 import 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poly = geom.Polygon([(35,10), (10,20), (15,40), (45,45), (35,10)], [(20,30), (35,35), (30,20), (20,30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lot(po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o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1160" y="3351240"/>
            <a:ext cx="3941640" cy="3941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38840" y="3355920"/>
            <a:ext cx="3952800" cy="3960720"/>
          </a:xfrm>
          <a:prstGeom prst="rect">
            <a:avLst/>
          </a:prstGeom>
          <a:noFill/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87400" y="1573200"/>
            <a:ext cx="8237520" cy="27766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6720" y="1662120"/>
            <a:ext cx="7948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geom import Point,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c = geom.Point(0, 0).buffer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d = transform(c, dx=5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#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[c,d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e,f = transform(c, shx=0.5), transform(c, shx=-0.5) # sh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 = transform(c, sx=0.7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#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[e,f,g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or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4368960"/>
            <a:ext cx="3786480" cy="3225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977080" y="4361040"/>
            <a:ext cx="3786120" cy="32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5560" y="1836720"/>
            <a:ext cx="3430800" cy="3487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25840" y="2036520"/>
            <a:ext cx="47242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se/encode WK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l GeoTools EPSG datab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-proj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87400" y="1579680"/>
            <a:ext cx="8178840" cy="45511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36720" y="1666800"/>
            <a:ext cx="81025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proj import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rojection('EPSG:4326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GCS["WGS 84"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ATUM["World Geodetic System 1984"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PHEROID["WGS 84", 6378137.0, 298.257223563, AUTHORITY["EPSG","7030"]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UTHORITY["EPSG","6326"]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IMEM["Greenwich", 0.0, AUTHORITY["EPSG","8901"]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UNIT["degree", 0.017453292519943295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XIS["Geodetic longitude", EAST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XIS["Geodetic latitude", NORTH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UTHORITY["EPSG","4326"]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 = Projection('GEOGCS[..."Degree",0.017453292519943295]]'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.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'EPSG:4326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87400" y="1576440"/>
            <a:ext cx="8269560" cy="341784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6720" y="1666800"/>
            <a:ext cx="810252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 import geom, r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proj import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p = Projection('epsg:4326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.transform((-111, 45.7), 'epsg:26912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(500000.0, 5060716.31351594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g = geom.Point(0, 0).buffer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g = reduce(lambda x,y:x.union(y),[geom.transform(g,dx=x,dy=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or x,y in [(3,0),(0,3),(-3,0),(0,-3)]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render.draw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render.draw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(p.transform(g, 'epsg:26912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render.draw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(p.transform(g, 'epsg:3005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roj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87640" y="52545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2040" y="52545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156440" y="5232240"/>
            <a:ext cx="1906560" cy="1905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38360" y="7264440"/>
            <a:ext cx="920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S 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6920" y="7264440"/>
            <a:ext cx="920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29560" y="7251840"/>
            <a:ext cx="920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35280" y="1846440"/>
            <a:ext cx="3435120" cy="3493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25840" y="2036520"/>
            <a:ext cx="47242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 and Write Lay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ry Layers using CQ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/O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J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41400" y="271080"/>
            <a:ext cx="81280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cripting Platform for JVM Langu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36760" y="4064040"/>
            <a:ext cx="3521160" cy="1334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705720" y="5791320"/>
            <a:ext cx="2862000" cy="141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08760" y="3556080"/>
            <a:ext cx="2328840" cy="196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235240" y="6197760"/>
            <a:ext cx="710712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9160" y="1747800"/>
            <a:ext cx="77137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milar API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pect languages dif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ython GeoScript should be Python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easy things easy, Make hard things pos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87400" y="1582560"/>
            <a:ext cx="8271000" cy="44532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6720" y="1674720"/>
            <a:ext cx="8197920" cy="41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workspace import PostG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 import 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g = PostGIS('spearfish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g.layers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['archsites', 'bugsites', 'railroads', 'restricted', 'roads', 'streams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 = pg['bugsites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.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bugsites [cat: long, str1: str, the_geom: Point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 = Layer('foo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.add([geom.Point(0,0)]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 = pg.add(l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 = pg.create('bar', [('geom',geom.Point),('name',str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spa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87400" y="1584360"/>
            <a:ext cx="8269560" cy="49309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6720" y="1674720"/>
            <a:ext cx="819792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layer import Shap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 = Shapefile('states.shp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.count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.count('CARPOOL/PERSONS &gt; 0.06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.bound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(-124.731422, 24.955967, -66.969849, 49.371735, EPSG:43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.bounds("STATE_NAME = 'Colorado'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(-109.055199, 36.988972, -102.036758, 41.00341, EPSG:43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or f in shp.features(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rint '%s has %f people' % (f['STATE_NAME'],f['PERSONS'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or f in shp.features('CARPOOL/PERSONS &gt; 0.06'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...   print '%s likes to carpool' % f['STATE_NAME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87400" y="1584360"/>
            <a:ext cx="8224920" cy="50752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8160" y="1674720"/>
            <a:ext cx="8344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feature import Schema,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chema = Schema('shapes', [('geom',Polygon), ('name',str)]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quare = Feature([LineString((0,0),(1,1)).bounds().toPolygon(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'square'], 0, sche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quare.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quare['name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'squar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quare.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LYGON ((0 0, 0 1, 1 1, 1 0, 0 0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quare.geom = LineString((0,0),(2,1)).bounds().toPolygo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quare['name'] = 'rectang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circle = Feature({'geom':Point(0,0).buffer(1),'name':'circle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87400" y="1585800"/>
            <a:ext cx="8332920" cy="546264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6720" y="1674720"/>
            <a:ext cx="8197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feature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geom import Polyg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triangle = Feature({'geom':Polygon([(0,0),(1,1),(2,0),(0,0)])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writeGML(triang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gsf:feature fid="fid--272f9bd3_1322c34ca2d_-8000" xmlns:gml="http://www.opengis.net/gml" xmlns:gsf="http://geoscript.org/feature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gsf:geom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gml:Polygon&gt;...&lt;/gml:Polygon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/gsf:geom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/gsf:featur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writeGML(triangle, version=3.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writeJSON(triang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{"type":"Feature","geometry":{"type":"Polygon","coordinates":[[[0.0,0.0],[1,1],[2,0.0],[0.0,0.0]]]},"properties":{},"id":"fid--272f9bd3_1322c34ca2d_-8000"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&gt;&gt;&gt; f = readJSON('{"type":"Feature", "geometry":{"type":"Point", "coordinates":[1.0, 2.0]}}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feature.fid--709b2d80_1322c512876_-8000 {geometry: POINT (1 2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08280" y="1789200"/>
            <a:ext cx="3481200" cy="3541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 and Render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25840" y="2036520"/>
            <a:ext cx="47242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ming S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mboliz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ma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87400" y="1574640"/>
            <a:ext cx="8301240" cy="25495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1666800"/>
            <a:ext cx="814392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Stro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line = LineString((0,0), (1,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line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troke('#000000', width=2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#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line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troke('black', width=2, dash=[5,5]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# d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line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troke((0,0,0), width=2).hatch('vertline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# h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ok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336760" y="4775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775040" y="4775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7442280" y="4775040"/>
            <a:ext cx="190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87400" y="1577880"/>
            <a:ext cx="8310600" cy="293544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1666800"/>
            <a:ext cx="8248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Fill, Stro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poly = Point(0,0).buffer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poly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ill('gray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 #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poly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Fill('gray', opacity=0.5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 # trans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poly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Fill('gray').hatch('backslash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 # hatch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poly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troke('red',2) + Fill().hatch('times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43440" y="501804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13120" y="501804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84920" y="498780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864560" y="4992840"/>
            <a:ext cx="19065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87400" y="1574640"/>
            <a:ext cx="8312400" cy="24019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36720" y="1666800"/>
            <a:ext cx="8143920" cy="20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mpoint = MultiPoint((0,0), (0,1), (1,1), (1,0), (0.5,0.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ape('black', 10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ape('yellow', 20, 'star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ape('red', 20, 'x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33720" y="47750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876920" y="47750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547040" y="4775040"/>
            <a:ext cx="190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787400" y="1574640"/>
            <a:ext cx="8312400" cy="24019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36720" y="1666800"/>
            <a:ext cx="8143920" cy="20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mpoint = MultiPoint((0,0), (0,1), (1,1), (1,0), (0.5,0.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Icon('hospital.png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Icon('rainy.svg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51160" y="46735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95880" y="46735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87400" y="1592280"/>
            <a:ext cx="8236080" cy="361476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36720" y="1673280"/>
            <a:ext cx="818532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Label, Stroke, Fill,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feature import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ont = 'bold 16px Arial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 = Feature({'geom': Point(0,0), 'name': 'foo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raw(f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hape() +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Label('name', font).point(displace=(20,0)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 = Feature({'geom': LineString((0,0), (1,1)), 'name': 'bar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raw(f, Stroke() +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abel('name', font).linear(offset=10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 = Feature({'geom': Point(0,0).buffer(1), 'name': 'baz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raw(f, Fill() +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abel('name', font).halo('white', 2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97000" y="5486400"/>
            <a:ext cx="190656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637160" y="5384880"/>
            <a:ext cx="1906560" cy="1904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470720" y="5384880"/>
            <a:ext cx="1906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8600" y="271080"/>
            <a:ext cx="81262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roov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6360" y="1977840"/>
            <a:ext cx="812628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oovy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ynamic langu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sy for Java programmers to lear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osures, DS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L, GUI Conso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iles to Java Byte C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l access to Java libra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.org/groov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jericks/geoscript-groov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16720" y="6197760"/>
            <a:ext cx="25783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30320" y="507996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70480" y="507996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997680" y="5079960"/>
            <a:ext cx="2541600" cy="2540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87400" y="1593720"/>
            <a:ext cx="8210520" cy="38782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6720" y="1673280"/>
            <a:ext cx="81853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style Shape, Icon, 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feature import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school = Feature({'loc': Point(0,0), 'name': 'J.L. Crowe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style = Shape('#004d96', 5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.range(min=3000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tyle += Icon('school20.png'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.range(max=3000, min=15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tyle += Icon('school40.png').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range(max=15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bounds = Bounds(-100, -100, 100, 100, 'epsg:404000'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school, style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bounds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school, style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bounds.scale(0.5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school, style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bounds.scale(0.1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87400" y="1590840"/>
            <a:ext cx="8185320" cy="333216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6720" y="1671480"/>
            <a:ext cx="823104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style Stroke, Fill, 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layer import Shap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states = Shapefile('states.shp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&gt; sty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roke() + Label('STATE_ABBR', '14 "Times New Roman"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&gt; sty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l('#4DFF4D', 0.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where('PERSONS &lt; 2000000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&gt; sty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l('#FF4D4D', 0.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where('PERSONS BETWEEN 2000000 AND 4000000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&gt; sty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l('#4D4DFF', 0.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where('PERSONS &gt; 4000000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states, sty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722760" y="4869000"/>
            <a:ext cx="6351480" cy="2681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27440" y="4865760"/>
            <a:ext cx="6321600" cy="2670120"/>
          </a:xfrm>
          <a:prstGeom prst="rect">
            <a:avLst/>
          </a:prstGeom>
          <a:noFill/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841400" y="806400"/>
            <a:ext cx="8170920" cy="59626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7160" y="96840"/>
            <a:ext cx="82580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entroid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71200" y="711000"/>
            <a:ext cx="8310600" cy="58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mport geoscript.layer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mport geoscript.featur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mport geoscript.geom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hapefile shp = new Shapefile('states.shp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chema schema = shp.schema.changeGeometryType('Point'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'states_centroid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Layer centroidLayer = shp.workspace.create(sche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ursor cursor = shp.cur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while(cursor.has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eature f = cursor.nex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Map attributes = [: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.attributes.each{k,v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f (v instanceof Geometry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attributes[k] = v.centr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attributes[k] =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eature feature = schema.feature(attributes, f.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entroidLayer.add(fe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ursor.close(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789520" y="5702400"/>
            <a:ext cx="4283280" cy="18018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878440" y="5791320"/>
            <a:ext cx="40276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841400" y="922320"/>
            <a:ext cx="8291520" cy="44179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8600" y="96840"/>
            <a:ext cx="83581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Voronoi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71640" y="1008000"/>
            <a:ext cx="8067600" cy="45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layer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featur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geom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hapefile shp = new Shapefile('states.shp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chema schema = new Schema('states_voronoi',           [['the_geom','MultiPolygon','EPSG:4326']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ayer diagramLayer = shp.workspace.create(sche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ist geoms = shp.features.collect{f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.geom.centr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Collection geomCol = new GeometryCollection(geo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 voronoiGeom = geomCol.voronoi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iagramLayer.add(schema.feature([voronoiGeom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73600" y="4889520"/>
            <a:ext cx="3289320" cy="262584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13200" y="4924440"/>
            <a:ext cx="3225960" cy="2585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9960" y="1028880"/>
            <a:ext cx="8126280" cy="46684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8600" y="100080"/>
            <a:ext cx="83581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apefiles to PostG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72720" y="1219320"/>
            <a:ext cx="779796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workspac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layer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dir = new Directory("/Users/jericks/Downloads/wash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intln("Shapefiles: ${dir.layers}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postgis = new PostGIS('postgres','localhost','5432','public','postgres', 'postgr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intln("PostGIS Layers: ${postgis.layers}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ir.layers.each{name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layer = dir.get(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intln("Adding ${layer.name}...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stgis.add(lay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5994360"/>
            <a:ext cx="947880" cy="1403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454560" y="5892840"/>
            <a:ext cx="1484280" cy="1484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181480" y="5892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0040" y="101520"/>
            <a:ext cx="843912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GS Earth Qu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30320" y="914400"/>
            <a:ext cx="7917120" cy="4070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74960" y="5181480"/>
            <a:ext cx="7819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 RSS Feed to a Shape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39880" y="20520"/>
            <a:ext cx="8352000" cy="751536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752480" y="95400"/>
            <a:ext cx="8180640" cy="77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geom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featur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layer.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workspace.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chema s = new Schema('earthquakes'[['the_geom', 'Point', 'EPSG:4326'], ['title','String'], ['date', 'java.util.Date'], ['elevation', 'Double']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irectory dir = new Directory('.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ayer layer = dir.creat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url = "http://earthquake.usgs.gov/earthquakes/catalogs/1day-M2.5.xml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rss = new XmlParser().parse(u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nt c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tring dateFormat = "yyyy-MM-dd'T'HH:mm:ss'Z'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rss.entry.each{e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title = e.title.tex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date = Date.parse(dateFormat, e.updated.tex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oordinate = e."georss:point".text().split(" 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ouble x = coordinate[1] as 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ouble y = coordinate[0] as 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point = new Point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elev = e."georss:elev".text() as 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eature f = s.feature(['title':title,'date':da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'elevation': elev, 'the_geom': point],"earthquake_${c}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ayer.add(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22320" y="1434960"/>
            <a:ext cx="8256600" cy="60660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7160" y="93240"/>
            <a:ext cx="82897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23840" y="1523520"/>
            <a:ext cx="805644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rabResolver(name="graffiti", root="http://simple-dm.googlecode.com/svn/repository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rab("com.goodercode:graffiti:1.0-SNAPSHOT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raffiti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geom.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et("/buffer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buffe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.fromWKT(params.geom).buffer(params.distance as double)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et("/centroi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entroid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.fromWKT(params.geom).centroid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et("/convexHull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onvexHull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.fromWKT(params.geom).convexHull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raffiti.root 'graffiti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raffiti.serve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raffiti.star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 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774800" y="812880"/>
            <a:ext cx="8236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ffiti Micro Web Frame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0040" y="142920"/>
            <a:ext cx="843768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metry Web Services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352680" y="1219320"/>
            <a:ext cx="54453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41400" y="1536840"/>
            <a:ext cx="8178840" cy="548136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0040" y="-360"/>
            <a:ext cx="84326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metry Web Services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Lay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974960" y="1625760"/>
            <a:ext cx="768024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unction centroid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var features = vectorLayer.featur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 (features.length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lert("Please add some features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OpenLayers.loadURL('centroid',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: wktFormat.write(feat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this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unction(reques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var wkt = request.responseT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var features = wktFormat.read(wk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 (features) vectorLayer.addFeatures(featur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unctio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lert("Error calculating centroids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8600" y="271080"/>
            <a:ext cx="81262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6360" y="1977840"/>
            <a:ext cx="812628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0120" y="5384880"/>
            <a:ext cx="23288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78040" y="923760"/>
            <a:ext cx="8313840" cy="40086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7520" y="101520"/>
            <a:ext cx="812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MS Serv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22240" y="1006200"/>
            <a:ext cx="8413560" cy="36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com.sun.grizzly.http.embed.GrizzlyWeb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com.sun.grizzly.http.servlet.Servlet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roovy.servlet.GroovySerlv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rab(group='com.sun.grizzly',module='grizzly-servlet-webserver',  version='1.9.10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start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server = new GrizzlyWebServer(8080, "web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servlet = new ServletAdap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ervlet.contextPath = "/geoscrip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ervlet.servletInstance = new GroovyServle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erver.addGrizzlyAdapter(servlet, ["/geoscript"] as String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erver.star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tar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73520" y="4267080"/>
            <a:ext cx="51865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41400" y="828720"/>
            <a:ext cx="8201160" cy="64180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7520" y="101520"/>
            <a:ext cx="812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MS Server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62280" y="874800"/>
            <a:ext cx="814536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map.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styl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layer.Shap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geom.B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file = new File("states.shp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shp = new Shapefile(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hp.style = new Fill("steelblue") + new Stroke("wheat", 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map = new Map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width: 256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height: 256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ayers: [shp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oj: shp.proj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ixAspectRatio: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bbox = request.getParameter("BBOX").split(",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bounds = new Bounds(bbox[0] as double, bbox[1] as double, bbox[2] as double, bbox[3] as dou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map.bounds = b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response.contentType = "image/png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map.render(response.outputStre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map.clos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841400" y="5092560"/>
            <a:ext cx="8182080" cy="22194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41400" y="2044800"/>
            <a:ext cx="8218440" cy="27223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41400" y="809640"/>
            <a:ext cx="8201160" cy="8254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9040" y="100080"/>
            <a:ext cx="8254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 Command line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73080" y="906120"/>
            <a:ext cx="818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echo "POINT (1 1)" | geoscript-groovy geom_buffer.groovy -d 10 | geoscript-groovy geom_envelope.groov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873080" y="2031840"/>
            <a:ext cx="802188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li = new CliBuilder(usage: 'geoscript-groovy geom_buffer.groovy -d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cli.d(longOpt: 'distance', 'buffer distance', args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cli.h(longOpt: 'help', 'Show usage information and quit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opt = cli.parse(ar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(!opt) 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 (opt.h || !opt.d) cli.usag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else println geoscript.geom.Geometry.fromWKT(System.in.text).buffer(opt.d as double)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73080" y="5181480"/>
            <a:ext cx="8134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li = new CliBuilder(usage: 'geoscript-groovy geom_envelope.groov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cli.h(longOpt: 'help', 'Show usage information and quit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opt = cli.parse(ar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(!opt) 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 (opt.h) cli.usag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else println geoscript.geom.Geometry.fromWKT(System.in.text).bounds.geometry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74800" y="1722600"/>
            <a:ext cx="23274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_buffer.groov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71560" y="4775040"/>
            <a:ext cx="2325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_envelope.groov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58600" y="101520"/>
            <a:ext cx="826452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oad Ma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873080" y="914400"/>
            <a:ext cx="812808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dering 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ster 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PS/GeoServer plugin(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p Prin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71200" y="114480"/>
            <a:ext cx="8116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72720" y="1216080"/>
            <a:ext cx="7999560" cy="61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.or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oogle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roups.google.com/group/geoscri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blog.blogspot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itHu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jdeolive/geoscript-p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tschaub/geoscript-j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dwins/geoscript.scal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jericks/geoscript-groov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34840" y="3047760"/>
            <a:ext cx="81550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8600" y="271080"/>
            <a:ext cx="81262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6360" y="1977840"/>
            <a:ext cx="812628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yth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va implementation of Pyth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ython 2.5 = CPython 2.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l access to Java libra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.org/p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jdeolive/geoscript-p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502320" y="6197760"/>
            <a:ext cx="35211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872720" y="1828440"/>
            <a:ext cx="8023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bine functional and object-oriented program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cally typed??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iles to Java bytec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l access to Java libra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.org/scala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dwins/geoscript.scala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758600" y="271080"/>
            <a:ext cx="81262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cal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02320" y="6400800"/>
            <a:ext cx="7107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41400" y="271080"/>
            <a:ext cx="81280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 the shoulders of giants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22400" y="1492200"/>
            <a:ext cx="81090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8960" y="97920"/>
            <a:ext cx="826128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 the shoulders of giants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73080" y="1218960"/>
            <a:ext cx="8042400" cy="62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va Topology Suite (JT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metry API and Algorith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Too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Sto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ture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verages/Raster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derer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va Tribe Base libra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Ser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i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maj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Script Modu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57600" y="1625760"/>
            <a:ext cx="443232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